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0E3AB-F22C-456C-B032-BA9DB41F9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792F-1296-41B4-B780-D74EB432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15541-8FCB-4556-A9A1-19AA50883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8BBA-2FF3-46FF-888F-9769D01AD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740FC-4236-48DD-9209-18204B4A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7F65-AF40-4CE7-99B4-5E19A62F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EEDEA-3DEF-4259-82C6-98660B4C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0C59-AA8D-492A-9D57-4571C936E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7A70-554F-409C-968E-50E18F20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E1C4-AE81-4A19-B58C-A6447EC4A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49B5-328B-4485-9215-C336B67B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8117-7375-4F99-8DF5-2FF35C2C4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0773-A2D3-4300-8E6C-16161C60560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clearlypixelated.com/experiments/rainbow.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raining vineg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8.2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is????</a:t>
            </a:r>
            <a:br>
              <a:rPr sz="4000"/>
            </a:br>
            <a:r>
              <a:rPr b="0" lang="en-US" sz="4000" spc="-1" strike="noStrike">
                <a:solidFill>
                  <a:srgbClr val="000000"/>
                </a:solidFill>
                <a:latin typeface="Arial"/>
              </a:rPr>
              <a:t>And how does it link to Scienc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rainbow">
            <a:hlinkClick r:id="rId1"/>
          </p:cNvPr>
          <p:cNvPicPr/>
          <p:nvPr/>
        </p:nvPicPr>
        <p:blipFill>
          <a:blip r:embed="rId2"/>
          <a:stretch/>
        </p:blipFill>
        <p:spPr>
          <a:xfrm>
            <a:off x="1835280" y="1557360"/>
            <a:ext cx="5184720" cy="38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241720" y="1511280"/>
            <a:ext cx="4714560" cy="523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952640" y="1071720"/>
            <a:ext cx="5238720" cy="47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igation into how acid rain effects germination and growth</a:t>
            </a:r>
            <a:endParaRPr b="0" lang="en-US" sz="4000" spc="-1" strike="noStrike">
              <a:solidFill>
                <a:srgbClr val="000000"/>
              </a:solidFill>
              <a:latin typeface="Arial"/>
            </a:endParaRPr>
          </a:p>
        </p:txBody>
      </p:sp>
      <p:sp>
        <p:nvSpPr>
          <p:cNvPr id="53" name="PlaceHolder 2"/>
          <p:cNvSpPr>
            <a:spLocks noGrp="1"/>
          </p:cNvSpPr>
          <p:nvPr>
            <p:ph/>
          </p:nvPr>
        </p:nvSpPr>
        <p:spPr>
          <a:xfrm>
            <a:off x="0" y="1197000"/>
            <a:ext cx="91440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each table into 2 working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group are to investigate the effect of different strength acids on seeds and the other is to investigate the effect different strength acids have on seedl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first investigation ensure eye protection is worn. Prepare four Petri dishes with cotton wool in the bottom. Thoroughly moisten the cotton wool of one dish with water, another with 0.05 M HCl, a third with 0.1 M HCl and a fourth with 0.2M. Record the pH of each dish. Sow 10 cress seeds into each Petri dish and keep in the same conditions. Make observations each lesson and count the number of seeds that germinate in each dish. Calculate the percentage germination and display the results graphical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second investigation, you will need 3 trays or pots of cress seedlings, all at the same stage of growth. One set should be watered with water, one with 0.05M HCl and one with 0.1 M HCl. • This investigation introduces ‘How Science Works concepts’: predictions can be made, observations recorded and conclusions drawn. Make observations each lesson and count the number of seeds that germinate in each dish. Calculate the percentage germination and display the results graphic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work</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book, draw a diagram of what you have done and write a prediction for what will happen.  Then write a results table for the next 3 les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14:07:08Z</dcterms:created>
  <dc:creator>sthobbsc</dc:creator>
  <dc:description/>
  <dc:language>en-US</dc:language>
  <cp:lastModifiedBy>sthobbsc</cp:lastModifiedBy>
  <dcterms:modified xsi:type="dcterms:W3CDTF">2007-03-06T09:37:55Z</dcterms:modified>
  <cp:revision>4</cp:revision>
  <dc:subject/>
  <dc:title>It’s raining vinegar!!</dc:title>
</cp:coreProperties>
</file>